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CA845-6DA7-4794-8754-AE5344CB0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6946-66CD-435C-B893-2A68B22A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40952-D454-43E5-AE0E-00307217C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7A20C-5FDC-4622-91E6-CC3827B83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A122-2367-4AA3-AC9A-8D0D1684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E7ED-F0D4-4D9C-B778-E74B8891E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E7A4-A186-460B-90B9-5BBFA0D01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AAD2-ED34-4194-BF27-5AEFCF47C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47FD-3895-478F-9898-80A9D88F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8F37-01A6-4AFE-BE9C-A000605F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5E6C-1801-4CB8-8A9F-1E7872160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1B49-4164-46EC-88A1-171B06957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A61B-1C65-4A3A-9F04-51728FF9A5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orseato\Local Settings\Temporary Internet Files\Content.IE5\SVI6SI95\MPj04395260000[1].jpg"/>
          <p:cNvPicPr/>
          <p:nvPr/>
        </p:nvPicPr>
        <p:blipFill>
          <a:blip r:embed="rId1"/>
          <a:stretch/>
        </p:blipFill>
        <p:spPr>
          <a:xfrm>
            <a:off x="2514600" y="3581280"/>
            <a:ext cx="4143240" cy="2362320"/>
          </a:xfrm>
          <a:prstGeom prst="rect">
            <a:avLst/>
          </a:prstGeom>
          <a:ln w="0">
            <a:noFill/>
          </a:ln>
        </p:spPr>
      </p:pic>
      <p:pic>
        <p:nvPicPr>
          <p:cNvPr id="42" name="Rectangle 5" descr=""/>
          <p:cNvPicPr/>
          <p:nvPr/>
        </p:nvPicPr>
        <p:blipFill>
          <a:blip r:embed="rId2"/>
          <a:stretch/>
        </p:blipFill>
        <p:spPr>
          <a:xfrm>
            <a:off x="171360" y="731880"/>
            <a:ext cx="8759880" cy="11332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hat is leveling?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atching books to students according to reading levels ensuring that students will have an easier time selecting books that they will be able to read without feeling frustrated” (Dzaldov, Peterson, 200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ion of simple texts to more complex and challenging texts (Clay in Cunningham, et. al., 2005)</a:t>
            </a:r>
            <a:endParaRPr b="0" lang="en-US" sz="3200" spc="-1" strike="noStrike">
              <a:solidFill>
                <a:srgbClr val="000000"/>
              </a:solidFill>
              <a:latin typeface="Calibri"/>
            </a:endParaRPr>
          </a:p>
        </p:txBody>
      </p:sp>
      <p:pic>
        <p:nvPicPr>
          <p:cNvPr id="45" name="Picture 2" descr="C:\Documents and Settings\orseato\Local Settings\Temporary Internet Files\Content.IE5\B97V7S9E\MPj04394050000[1].jpg"/>
          <p:cNvPicPr/>
          <p:nvPr/>
        </p:nvPicPr>
        <p:blipFill>
          <a:blip r:embed="rId1"/>
          <a:stretch/>
        </p:blipFill>
        <p:spPr>
          <a:xfrm>
            <a:off x="1371600" y="152280"/>
            <a:ext cx="1165320" cy="1524240"/>
          </a:xfrm>
          <a:prstGeom prst="rect">
            <a:avLst/>
          </a:prstGeom>
          <a:ln w="0">
            <a:noFill/>
          </a:ln>
        </p:spPr>
      </p:pic>
      <p:pic>
        <p:nvPicPr>
          <p:cNvPr id="46" name="Picture 2" descr="C:\Documents and Settings\orseato\Local Settings\Temporary Internet Files\Content.IE5\B97V7S9E\MPj04394050000[1].jpg"/>
          <p:cNvPicPr/>
          <p:nvPr/>
        </p:nvPicPr>
        <p:blipFill>
          <a:blip r:embed="rId2"/>
          <a:stretch/>
        </p:blipFill>
        <p:spPr>
          <a:xfrm>
            <a:off x="6553080" y="152280"/>
            <a:ext cx="1165320" cy="152424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How are books separated into levels? </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de levels (ie. Accelerated Rea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 would be third grade, second month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ters (Fountas and Pinnel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Z, K-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s (Reading Recovery, DRA, Lex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do not correspond to grade level numb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there is a formula is used to assign a  level of readability (i.e. Fry, Flesch-Kinca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Picture 3" descr="C:\Documents and Settings\orseato\Local Settings\Temporary Internet Files\Content.IE5\B97V7S9E\MPj04395230000[1].jpg"/>
          <p:cNvPicPr/>
          <p:nvPr/>
        </p:nvPicPr>
        <p:blipFill>
          <a:blip r:embed="rId1"/>
          <a:stretch/>
        </p:blipFill>
        <p:spPr>
          <a:xfrm>
            <a:off x="7086600" y="1447920"/>
            <a:ext cx="1523880" cy="2282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hat is the criteria?</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t and print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ence complex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t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and literacy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bham, Villaume, 2002)</a:t>
            </a:r>
            <a:endParaRPr b="0" lang="en-US" sz="3200" spc="-1" strike="noStrike">
              <a:solidFill>
                <a:srgbClr val="000000"/>
              </a:solidFill>
              <a:latin typeface="Calibri"/>
            </a:endParaRPr>
          </a:p>
        </p:txBody>
      </p:sp>
      <p:pic>
        <p:nvPicPr>
          <p:cNvPr id="52" name="Picture 2" descr="C:\Documents and Settings\orseato\Local Settings\Temporary Internet Files\Content.IE5\SVI6SI95\MCj02928940000[1].wmf"/>
          <p:cNvPicPr/>
          <p:nvPr/>
        </p:nvPicPr>
        <p:blipFill>
          <a:blip r:embed="rId1"/>
          <a:stretch/>
        </p:blipFill>
        <p:spPr>
          <a:xfrm>
            <a:off x="5638680" y="2057400"/>
            <a:ext cx="2314800" cy="22096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How does leveling books benefit my student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gression from simple to more complex and challenging tex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sy to choose “just right boo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lps to differentiate instru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ment tool based on appropriate leve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ows teachers to be more selective when teaching boo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veled texts can nurture the development of skillful read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can monitor their progr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can monitor their reading at a level that is appropriate for th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abham, Villaume, 2002)</a:t>
            </a:r>
            <a:endParaRPr b="0" lang="en-US" sz="2500" spc="-1" strike="noStrike">
              <a:solidFill>
                <a:srgbClr val="000000"/>
              </a:solidFill>
              <a:latin typeface="Calibri"/>
            </a:endParaRPr>
          </a:p>
        </p:txBody>
      </p:sp>
      <p:pic>
        <p:nvPicPr>
          <p:cNvPr id="55" name="Picture 5" descr="C:\Documents and Settings\orseato\Local Settings\Temporary Internet Files\Content.IE5\SVI6SI95\MCPE06869_0000[1].wmf"/>
          <p:cNvPicPr/>
          <p:nvPr/>
        </p:nvPicPr>
        <p:blipFill>
          <a:blip r:embed="rId1"/>
          <a:stretch/>
        </p:blipFill>
        <p:spPr>
          <a:xfrm>
            <a:off x="6553080" y="5105520"/>
            <a:ext cx="1447920" cy="16254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When does leveling not work for my students?</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into "leveling mania“</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bsession with appropriate lev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fferent leveling criteri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ssessing reading=higher lev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prehension is not often checke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rely on leveling rather than in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s children’s book choice and expos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not always fit children’s nee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focusing on reading strategy, more on reading sele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es on patterned words, phonetic literat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students reading to learn or learning to re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believe all lists are accurate because it is print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 to find leveled materials for content are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knowledge is not accounted for in leveling of content area tex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abham, Villaume, 2002), (Cunningham, et. al., 200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3" descr="C:\Documents and Settings\orseato\Local Settings\Temporary Internet Files\Content.IE5\SVI6SI95\MCj04244680000[1].wmf"/>
          <p:cNvPicPr/>
          <p:nvPr/>
        </p:nvPicPr>
        <p:blipFill>
          <a:blip r:embed="rId1"/>
          <a:stretch/>
        </p:blipFill>
        <p:spPr>
          <a:xfrm>
            <a:off x="6553080" y="1219320"/>
            <a:ext cx="2025720" cy="19047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44:39Z</dcterms:created>
  <dc:creator>College of Education</dc:creator>
  <dc:description/>
  <dc:language>en-US</dc:language>
  <cp:lastModifiedBy>College of Education</cp:lastModifiedBy>
  <dcterms:modified xsi:type="dcterms:W3CDTF">2009-04-09T01:35:20Z</dcterms:modified>
  <cp:revision>6</cp:revision>
  <dc:subject/>
  <dc:title>Leveling Content Area Texts</dc:title>
</cp:coreProperties>
</file>